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B24-E73D-4A2E-90A2-98E8A252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C49-F4F1-4808-ADDD-D3C034B5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0060E-C27C-4E23-AC3E-CC457AF9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DAD36-3855-4A18-851B-46D86217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EB801-B82C-4F6B-8676-084AEC0C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A867E-4698-4E08-ACB2-DCB9A621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2D33C-CFCF-4189-9B3D-90BFD107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2695C-90B4-4B30-A3A5-F3BBF96F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19532-3F0A-4FD7-B1FE-31D957E7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1475B-A355-4707-9374-FD7DEF12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85446-48BD-4F07-A81D-441D9B65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1FFF8-3EF5-4D8B-941E-8E1D8DB4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770-DDDD-42E6-A0BF-CF803C7D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A0114-D99A-44CD-A4CA-6E6AED57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2C972-15CD-4FFF-9B06-93C0B1DF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6BCB3-01B4-42DE-B102-ED02428B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FAD2F-74FC-4C5B-91FF-0AC2065A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10E34-B21C-41F7-BA83-7E0018FE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D405B-7DE8-4654-8D58-5EDFCDB1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5A31B-4B34-4E39-9F17-CEE76BC9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2E1CF-7545-4D6A-8331-8586CEC9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F2ED5-5D9B-473B-A921-72F1E5F3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54928-2533-4C24-AD35-E863F941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DCB-FE8B-498D-9537-538E85E6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30AB9-B105-4F06-B235-D6CB9F21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B9BB1-592E-4657-88AB-06F83EC6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94B04-5A23-4DB8-91DA-B3CA4EDF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1A953-8BAA-4464-BB88-3A7770E0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EA3AC-DA6E-40DF-8673-4508BF2C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928D6-089C-4084-90D2-6FEAE209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98B80-88AA-48E8-9B47-4498BECD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10508-3CE9-4422-9770-1F025929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C8995-5126-4F14-AEFA-D5C746A0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37654-2DBE-47AA-8C55-9264FE0F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D494-B624-4D44-A9FD-28538241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75124-C10E-44A6-9B33-D32333C7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FC249-1633-41A4-9DB3-DA86FF26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81190-705D-42C4-9E0C-2D2B47F8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22511-FABF-4927-A30C-D40A6ADE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8D31C-427D-4F26-86DD-42706058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3905A-F7B4-43A8-845D-F0F77594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4A521-E3E5-4F9B-BFF3-7618ED13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01ED3-0533-4576-8F72-6CDC6765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BE4F6-266A-45BF-A37D-79015B9C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0A14D-C57C-4A8C-8FE9-CFA4A3FA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97D1-6406-467B-9209-0226BAA7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A3BAD-2E3A-4D63-8B52-3120BA1B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94A78-8579-49AC-8056-7D61767A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E89FB-5935-4F63-8344-59B60373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0B24F-304B-4EE4-936C-A556D98F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4EDDB-1B29-4F3A-ABDC-C07618FA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3F4E7-C3B6-4B8A-86CC-A94B01A1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DEE92-A178-4F46-8557-7ED38F1B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B938E-A22B-480D-A5BD-8C42E360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60B5F-5B4F-4124-970B-0513501B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B33E5-E268-411B-A5C7-04621570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2D14-5BFF-4CC1-BD3B-26BA9240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9706A-6B75-4297-8C37-72004612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CC094-9104-42CF-81D3-C9CB912E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C0507-A659-47FB-9A62-723203B2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6D440-846D-4BBC-A53C-7318C695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6E70F-F26C-4E99-8F81-DF111804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BA757-70FD-422F-A007-B2E5B730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B3850-1C4F-499B-95EA-47DFA244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4BAB1-5D87-4119-AFF8-91F6DBD9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EDEA3-4C91-4F63-AE92-CCA8421A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ABAE2-084E-4EDD-AAE3-C3CA968F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F860-BAD6-46A4-A411-AB0D3A1B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1407C-4C8C-43E5-BB52-DA572AA8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9E30E-BB21-4ADD-863A-D0ADB689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68817-3AD0-4115-B01B-9652CDEF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EECDF-B29E-456A-8B58-D510DA46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19A92E-CBCF-40BB-951D-2C893BB7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F35AC-666B-4D2D-B712-5298D869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5F64F7-14CA-4F82-8694-E8E04C2D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644238-CB9C-456C-B4CB-A63C8CAC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666AE3-6A72-40C8-85AD-6421A466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701089-D85C-43FD-BD58-992EFE83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C9A7-9845-442C-BE9B-B49ACC6C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255E7-727F-4864-B62B-6B5E7E5D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A0C848-91AC-4CF4-902B-DA79E27F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65F34-67F4-4E8D-873C-6684D908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F53A6-3C1F-4513-855B-59CEF91D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2D1FD-3E4B-4A13-B6A4-67596066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6F6B3-A92E-4DEC-8B8C-659A5024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B8C99F-F716-4196-B3BC-F2457BDD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241E44-AAF4-453A-9234-D18B0E18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0A329-6BA3-480B-91B1-1429E8C5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A472C-47B7-4CEA-9F8A-CFD6591D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1375-2542-4894-B5F3-84AF3ADC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8D577-9A7C-469E-BFEE-3CA85F33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D13EB9-58D8-4CD8-BFF9-402206CD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63DED5-B023-4159-91AB-D06F5888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13D08-F9DC-42A9-85FA-DECA837B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CB6A54-A3AB-444F-A731-E007AB0F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AFF43D-CF90-4C57-9287-4E5B1F45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D47409-A807-4247-8422-043D9FA6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FE2BF0-0CC6-4DDD-89B8-B0CF679C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0EC6DF-B77F-4DA0-95C5-4BB6F55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731C12-620E-4579-A9B2-77FFD181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16BA-815A-449F-8CD4-D228CC22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E293E4-E173-4D3D-B761-1043BAF9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CEB1DF-EF7D-47BB-83AC-9DD2CACB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0DAF9-34BB-452E-A7EB-A7B07C6E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9FFBE0-6674-4031-9390-807E80B3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C2DA76-5DB6-4FC4-884F-21A89E67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17AF54-DD98-42C9-AA8A-4F2D4425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527AD1-BF13-4794-8F5A-D4B26407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84173B-8B9A-45C6-A0C8-DC15BD17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259EA6-6A08-4F02-871B-34F08124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F4352-2884-4CFC-A3AF-12B01E9B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305-55A6-418B-AB94-581C2483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F636-AF69-45D5-8AF6-56662466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1DED32-47B5-41EE-99C7-209692C4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1EF8B-2AD5-4CC2-810A-DA60E876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518E76-4566-43CC-9A38-43C0415F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924696-D609-4D03-B37F-EFCB6344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5FC78F-4F7E-4E7D-970E-BAC69521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193F3F-9EC8-4FDC-9759-23A1E703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D10E1F-CC05-4CEA-8C3B-3A61EC7E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729846-2A7C-487C-A623-FE295974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4FAFD1-CA13-4DA9-A272-54D0B8DD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58A0F2-9B4D-4AFC-B91D-1B27F71C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F5B5-5515-44BC-B127-9C8EF6CD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E7BBFC-47F3-44CE-8DBB-893E18C4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EB2BE0-A9F6-4C0C-9B48-8EB83E7F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C7CB1E-0B98-4385-98C0-3EED4D0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C2D97A-BA39-40E4-8D13-29EA6017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ECAF2D-7C04-4092-B496-F090D1E9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6192E9-47B5-499A-945A-DC41DE95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9AABAD-5E5B-40FF-BE14-9ED7626C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8AD707-6698-4485-9C99-2E7E0DE8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6B922F-B010-4B4B-BD7B-215AB6BE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E9CCEB-04E3-481D-97C2-A79C5493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9503-0ED2-4B9B-B3AA-BE9F9FDD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D888BD-6CAC-470D-99A4-DF9F1EE6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E6AAD6-AF31-4CA3-BA84-AC35DA54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26687C-F3D6-4724-A3EB-63B6ECA4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696449-BA22-4125-86F6-2D3E2C2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4380F1-CC3A-40C9-AEDC-D8CBAA04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ED7797-DCDF-431E-85D5-56B47A42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098351-8C47-4C61-8C87-90B14755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6FCF5A-23E0-4E10-9045-D2C64E8B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E5107B-0E95-451F-91DF-9536FF8E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475AA4-C690-4578-BFFD-5120D4D6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8BFB-FB99-42A9-8DB1-9BC4E72D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DDB1F2-8ED8-48E4-9BDE-02AF2770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D9DB50-C92E-4E84-8EAE-A38D704D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C7E5AB-3B0F-4A58-991F-7E1E4C94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6E870B-6DD2-4563-8225-5BEA5DAB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D904AA-EF72-4F7D-B0C7-C77D1862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FC3427-D441-4F98-94EC-FECD22A7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96435D-9319-4392-97E1-471FD90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F3A392-D97B-4FE5-A1BE-B1894FB0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E9B3AA-4C57-4D7C-B06C-518AD5DA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C6E8EC-F1E7-4B70-A700-46C32251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945B-9F2A-4B87-BFB6-36BC8572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2FC434-3FDB-4F34-9B14-23F7D29B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A5F5EE-5EF0-4F44-8B53-F796E52C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D01520-32E0-4DC8-A57D-BB38EC5F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B4EF41-E574-4EC0-9219-B463FBC1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3F965D-C05C-45C6-B174-43B97AE1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2EA7C4-31AC-4F88-818C-F1058C76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19B43A-45CA-4D23-92DF-90F4192D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274197-25A4-449C-85C7-71049727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3FD714-1F25-466D-A780-D00C94BB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33D289-EB00-40F5-8874-2119FCE6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448F-529A-499F-8E8E-E06BB563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C72DC2-C9EC-41EA-805E-421B2C16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D7796A-728D-4439-B554-9305CC6A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640E10-365B-4517-9969-A34A7D0A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B1123D-9A40-443C-AD20-34DDAF6D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E6096F-7E56-4680-BD96-7876862E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1C5CC6-1912-4517-9AE5-E2D170CE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DD2612-A084-4828-A22D-C8B5173E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08ED29-CD3B-48CD-A946-B6F5B55C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61EF6B-66D3-43F4-80B4-5D9423C5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B4D240-4A5A-47D0-A699-31032C04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FC1E6-0EC8-47F8-9D2B-ED00C702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435DB2-C564-4C65-AE65-77458A8A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B3C940-31DB-4EF5-A000-A8FDC1AF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F3B4EA-3DC7-42D7-97B8-74D138D8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38B083-35C6-4EE0-931C-D382F320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895D9D-5915-4460-913B-0BCF9208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B911AA-F899-466A-869B-B17D8FA9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1B86D7-A320-4582-83DE-F7937533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966AEB-7DD9-4F90-8C46-9F5955E6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803F54-752C-47ED-87CE-BCC67EB4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AF2028-A23F-4704-9775-FA428600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36B9-9EDF-44D1-BEB2-FF079DA7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287A0B-16D2-4288-B301-52AAFE1E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9F9108-98E9-4646-97FE-B9630363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7C1812-83F4-4D31-A94F-1358CB03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5F9A1C-FDF6-48A0-9EC4-86569A9B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207075-4EF2-4B1A-A427-812BC634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CF048F-E2B7-4219-9895-953A2D27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E2253E-3CC1-4236-9F2B-F045ECE0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54D47-F67C-45C8-A1A1-FD7FC9F2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05F9-3AB8-4C7E-BF05-38422655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46F-3DD9-49EE-8BBF-90E57330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A9E70-EC36-4B70-820F-AD094FFB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F976E-1779-4C27-AD81-48A6A26F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99D2-92D3-4FB8-A671-A4F061AC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6DC9-4E25-494C-86BF-216EE085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4AC2-0D7B-44EF-A3B2-3DFF5757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CC1FE-11A2-491A-9428-CD265819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ACD7D-D6CA-495D-8C21-F67B32EC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2D14-AECD-4FD7-AF68-A2C2DE66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78284-764A-4F2C-AB90-86835826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DFE99-BF08-4710-93EE-C6346DA4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1BF-79EF-4962-BB2C-CB4EE7B4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9CB3E-CEE9-4F8D-BFEE-FA7EF44E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CF5F-380D-45ED-BB97-5F4D7306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48C79-54F7-4B85-BD97-62F52D9E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817EC-F5F8-4869-9761-88C91FFA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7F2FA-B1BE-426D-A550-3F0E9113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B921-06AA-4515-9C3D-9354B89E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285EC-7D2A-4DC5-9030-FC83B0B4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9ED58-2690-4F2D-8412-D7F4E8A1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1F6D1-7876-471B-BAF0-D2881411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24BE4-0B9B-43E4-AF79-E7CB997B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6E3-9305-44B8-9D35-F34FD596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016E9-D4DB-4FB1-82DD-92211810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15BC8-EF74-4B0B-A8A7-F02E6337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91145-D37E-4684-82A6-38259789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CBAA3-AD45-45A2-BB2E-03F66424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BFD0B-857B-4BAB-860A-53ED1D49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FC128-E1F2-497F-84EC-59E0B499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8CCF4-0D3B-4314-A93C-0D1CBE89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87CAD-E465-4788-97BA-1048508D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3F61C-BE10-4786-B41B-77821D53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05E89-518F-49D3-BF73-067B1120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D2A-9BCF-41C8-838E-1E2219EC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C9B98-E34B-4B64-A114-26F15772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2A3F8-E722-4F22-BF41-DA6C5C5B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713AE-AB49-4B92-B804-090CE7E4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B8BF9-680B-496A-A9FF-CEEFE46C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854A6-3A59-4091-9061-91C4C087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034A7-D4FB-453B-8DB9-EA69E603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DCE61-66BA-4673-9B9C-A6C178AA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1A54C-ED45-44BD-A926-42294524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B5C33-C0E2-4CF3-A897-8C63C5B4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FBA67-55E7-4833-801C-3D6CEC01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30E-8B28-4684-8771-65D7337F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85E89-9AB4-4004-9422-47923E7B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FDACC-0BFE-48F4-9211-D6496199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9D890-CA9F-4335-A2DB-1263584F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46C84-65E7-4BE9-8D01-93349864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A7217-489F-4C81-BA2B-968B8CA1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D7FA9-C4F3-42BB-8B41-0C37BD94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17D36-6B67-4DF2-82BC-D2C35201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380E6-46FC-409D-B5D5-44D73A94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4604A-89E7-4082-BEB9-0F807023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47F1C-6A00-4D20-8E5A-D8580B2A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DFE-31E8-44BE-8B48-272CF6C0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C3F06-C53B-4222-A24D-C48AE41B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F9394-A900-4008-B3B7-080BA1E1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F0329-E9FC-486C-8398-01DD8C50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94460-F607-4C8E-985B-55AFFDCC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B9AF0-A12E-46C8-884F-BDFD028F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664AB-76C2-4450-B965-9C37DA75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7F0D9-39AB-4E54-95FE-D7BB7E04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FAA5C-2016-4D41-8502-AB3FACD1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FBF8B-3931-46E4-BEE5-F1F9FDA7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C9090-B091-4EC8-AB90-DE021DB0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749-1481-44ED-A582-E86B6106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53CDB-808F-4B56-A334-4C756FD7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E72DC-E9EE-443A-97D5-497C66C7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850FF-8F41-44CB-AB4F-4F2448CD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9A1B9-2B65-4A4A-9D55-EE6DC22F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BFDBE-C568-41E1-AECC-EC58B11A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E9E6C-0FE2-4214-AB67-41A3AF34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61ACA-2CB3-46F7-BD62-A8E99316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55424-57D6-4018-8BE4-3B2B4F8E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69E4A-B5EB-4D67-9FD8-836EFACE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53DB2-FA96-4D47-89A6-B20A4433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95FA-DAC4-468E-96E3-DE01197D7E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73BF-B501-4B5E-8592-081260C59E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0420-EF9A-448D-A82C-5879B94982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5D9D-1E95-4C0E-A548-C84B3AFE45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1460-6A47-449A-A9FF-AB0C7944AB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F5B0-5C49-4A76-A3D5-9CF574E392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7121-7C02-433D-8F8B-85F16EEEEF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B953-E6F1-4796-99C6-2821475522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BF2C-08EF-479A-B5CA-9C8DF0A032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3808-8311-4E81-B81A-D4FE797946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5249-9D72-4E02-9CC2-44F63524AF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39B2-3E20-4893-ADC1-1BE1757E52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DB4C-CBAB-43C2-991C-7D8F20F552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B95C-5F8C-4662-BC22-E38EC01945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B559-8231-446D-B2BA-1E8EB18992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E674-5A0C-4C4A-A5B6-3D37A2FDD1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7CB5-3FA3-40D6-BC4E-A7B3D6B24E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8D7C-C71C-413B-9271-0A9C0C3B4D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52F6-4969-4C2F-B565-DA71AC702E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0C00-3DA3-4ADA-A685-C8E9A194BD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C7D9-BD4B-4387-8B17-2DFE934117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3F03-9C1C-4D0D-A10A-584249D501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0C2F-3C89-4794-95E6-F0F693890B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4B35-DBCE-4898-85B2-1CF7606014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131B-3899-4F4E-97AD-10CB3E0C43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F40A-4B25-4031-B4FF-B0CE9B6969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0480-B2A0-4298-A81B-077B60E772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2159-48B1-40AA-A591-B884EE7DA7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54BA-4425-45BC-B5C6-782F2A0B39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8D7A-6249-4A74-8C71-87C2C04A35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5BFC-CD0B-47F0-8BCF-881E2B1A92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11F3-49B0-4D11-984F-29CC0290D5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71DF-7B63-478F-AEE9-29D831C3C8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B9C6-1658-499B-ACDA-32B6F9B1A3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49AA-D126-4C52-AA6C-A796B677A8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8CB3-B1FF-460D-9251-ABE92318F7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1061-325C-4F74-8191-C76F8D0F4D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D061-CE14-4E22-9CD4-64172C2702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9D12-BD44-4988-BBED-17A8D55D93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97B1-7B5B-4441-91CB-4284C2A068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B89A-E3F2-4787-B2A4-8C57019B40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8057-AE56-4058-9440-D1037C1E18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76320" y="2976480"/>
            <a:ext cx="89913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93600" y="1327320"/>
            <a:ext cx="8956800" cy="182556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2" descr=""/>
          <p:cNvPicPr/>
          <p:nvPr/>
        </p:nvPicPr>
        <p:blipFill>
          <a:blip r:embed="rId2"/>
          <a:stretch/>
        </p:blipFill>
        <p:spPr>
          <a:xfrm>
            <a:off x="1224000" y="3444840"/>
            <a:ext cx="6696000" cy="22766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3348000" y="1728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320364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601200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608472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7"/>
          <a:stretch/>
        </p:blipFill>
        <p:spPr>
          <a:xfrm>
            <a:off x="810108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8"/>
          <a:stretch/>
        </p:blipFill>
        <p:spPr>
          <a:xfrm>
            <a:off x="845964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9"/>
          <a:stretch/>
        </p:blipFill>
        <p:spPr>
          <a:xfrm>
            <a:off x="3419640" y="407664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10"/>
          <a:stretch/>
        </p:blipFill>
        <p:spPr>
          <a:xfrm>
            <a:off x="3276720" y="4724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11"/>
          <a:stretch/>
        </p:blipFill>
        <p:spPr>
          <a:xfrm>
            <a:off x="6372360" y="40338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12"/>
          <a:stretch/>
        </p:blipFill>
        <p:spPr>
          <a:xfrm>
            <a:off x="6659640" y="4667400"/>
            <a:ext cx="79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1181160"/>
            <a:ext cx="8743680" cy="44956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06728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6184800" y="4235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716436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156360" y="50706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452520" y="750960"/>
            <a:ext cx="8238960" cy="58482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3924360" y="1714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5997600" y="1773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694836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5983200" y="263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4989600" y="3645000"/>
            <a:ext cx="19587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7"/>
          <a:stretch/>
        </p:blipFill>
        <p:spPr>
          <a:xfrm>
            <a:off x="4067280" y="53150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622440" y="92160"/>
            <a:ext cx="8351640" cy="66736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258920" y="1830240"/>
            <a:ext cx="30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1187280" y="2565360"/>
            <a:ext cx="30974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4859280" y="183024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4788000" y="256536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6"/>
          <a:stretch/>
        </p:blipFill>
        <p:spPr>
          <a:xfrm>
            <a:off x="1474920" y="4854600"/>
            <a:ext cx="352872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7"/>
          <a:stretch/>
        </p:blipFill>
        <p:spPr>
          <a:xfrm>
            <a:off x="1403280" y="558972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8"/>
          <a:stretch/>
        </p:blipFill>
        <p:spPr>
          <a:xfrm>
            <a:off x="1403280" y="632448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9"/>
          <a:stretch/>
        </p:blipFill>
        <p:spPr>
          <a:xfrm>
            <a:off x="5435640" y="481176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10"/>
          <a:stretch/>
        </p:blipFill>
        <p:spPr>
          <a:xfrm>
            <a:off x="5364000" y="554688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11"/>
          <a:stretch/>
        </p:blipFill>
        <p:spPr>
          <a:xfrm>
            <a:off x="5364000" y="6281640"/>
            <a:ext cx="352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466560" y="2247840"/>
            <a:ext cx="8210880" cy="2362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86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538200" y="1362240"/>
            <a:ext cx="8067600" cy="41335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3348000" y="394812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633564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3492360" y="5084640"/>
            <a:ext cx="381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257480" y="1581120"/>
            <a:ext cx="6629400" cy="3695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3635280" y="334152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908000" y="386064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3995640" y="4508640"/>
            <a:ext cx="360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257040" y="601560"/>
            <a:ext cx="8629920" cy="62010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403280" y="3054240"/>
            <a:ext cx="511344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2700360" y="357336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2556000" y="5300640"/>
            <a:ext cx="352872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6"/>
          <a:stretch/>
        </p:blipFill>
        <p:spPr>
          <a:xfrm>
            <a:off x="1403280" y="5848200"/>
            <a:ext cx="43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7"/>
          <a:stretch/>
        </p:blipFill>
        <p:spPr>
          <a:xfrm>
            <a:off x="2627280" y="6381720"/>
            <a:ext cx="352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271440" y="851040"/>
            <a:ext cx="8705880" cy="58957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042920" y="341316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042920" y="399096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971640" y="4552920"/>
            <a:ext cx="65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1116000" y="508320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1116000" y="566100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7"/>
          <a:stretch/>
        </p:blipFill>
        <p:spPr>
          <a:xfrm>
            <a:off x="1042920" y="6237360"/>
            <a:ext cx="432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0:2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